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applause.wav" ContentType="audio/x-wav"/>
  <Override PartName="/ppt/media/arrow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4DE4-6B7E-4F7D-94F4-80434C53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4F8-CC48-4B45-9995-D139A534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757-41FD-4304-B7C0-E870DC85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747-F130-43C9-82F0-E4FA5C14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843E-A03E-4F48-B029-CA491F3D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2DB8-73EB-4F71-A8B7-401BB9C2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5B75-30C3-4559-BAC7-0E06A3FA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A8DB-F39C-40AB-B5A7-4298B9D5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258F-78B5-472A-956B-0B967790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AEF9-36ED-4A2D-A2EC-C8CD3268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9E29-5AB2-4AD8-AA15-08F180F7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2E7C-52E4-4B9D-95DF-7872768A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BE2A-6838-4457-96FD-CC903700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0E5D-5571-4578-98BA-A85443B2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F994-AA56-4D2C-B37B-2EB08FBF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2479-0194-4ACD-AAC0-34F1B6C1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A6CD-0EE3-43B1-9AAA-A9D911F6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0E14-B440-4B6D-B5DC-150C2A44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11E-D132-47E4-B00B-80D03C6C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52E-E987-4DF6-A8E3-0250111A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A05-1B89-489C-BD33-E0032F7A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E74-C658-4D55-A317-089B0350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911-3B68-48B3-BC9E-FD4B8D5C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879-FAF9-4304-8137-165B371E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47B3-7212-49F4-9680-99DD95A5FED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C611-C17E-4B6E-BBCD-C20A7A010D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Century Gothic"/>
              </a:rPr>
              <a:t>The Movement is Always Tougher in Russi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24280" y="289512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Calibri"/>
              </a:rPr>
              <a:t>Ethan Sit and Quynh Vu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2666880"/>
            <a:ext cx="1193760" cy="1419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2133720" cy="1415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Seaport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There are seven seaports in Russia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Kaliningrad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St. Petersburg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Okhotsk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 Murmansk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Vladivostok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Astrakhan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Petropavlovsk Kamchatsky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A problem with these ports is that they are spaced far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apart from each other. Ships have to travel another 200 mile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to get the most inland part of Russia, where Kaliningrad is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located. Then, shippers have the choice to travel another 500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miles to the port of St. Petersburg. This consumes lots of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time,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fuel, and therefore money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Another problem happening in these ports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is that all ports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but Kaliningrad have ice or frost at some point of the year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4572000"/>
            <a:ext cx="411480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324480" y="2666880"/>
            <a:ext cx="2438640" cy="1781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5" name="arrow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Railway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Railways in Russia account for  2.5 % percent of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Russia’s GDP, or Gross Domestic Product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61000" y="3164040"/>
            <a:ext cx="4154400" cy="2550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Three rail tracks 350.jpg"/>
          <p:cNvPicPr/>
          <p:nvPr/>
        </p:nvPicPr>
        <p:blipFill>
          <a:blip r:embed="rId2"/>
          <a:stretch/>
        </p:blipFill>
        <p:spPr>
          <a:xfrm>
            <a:off x="5181480" y="1219320"/>
            <a:ext cx="857520" cy="64764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3" name="arrow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4:14Z</dcterms:created>
  <dc:creator> </dc:creator>
  <dc:description/>
  <dc:language>en-US</dc:language>
  <cp:lastModifiedBy>Han</cp:lastModifiedBy>
  <dcterms:modified xsi:type="dcterms:W3CDTF">2010-12-15T01:33:17Z</dcterms:modified>
  <cp:revision>12</cp:revision>
  <dc:subject/>
  <dc:title> </dc:title>
</cp:coreProperties>
</file>